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F663-43DE-44E9-80B0-77E00BFB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4190-EA30-45D6-BDD8-3A01D277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4E1B-7529-49EA-8C7B-4EA079F6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82F9-9608-43B2-9D85-AEFB3ECC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7E73-E8BC-4BBE-BC25-2EF97D67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748D-49A6-4D09-8452-CDC6890E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57CD-0413-434B-A0A4-372CEDEC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8BDF-A98E-4619-951E-9D561404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713F-FC39-4AD1-8C0D-1258D46F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5B88-3F23-467E-883B-FD46E8D9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0052-905A-433A-822F-E860312A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4443-736D-4ACF-A895-6EAA113F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10D4-8F28-4E62-8C81-058CE8ED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2655-D2CE-49F3-80BE-DDB22355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B886-6CB6-47A8-B1C3-44CB11F8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6E35-589F-43C4-8FC9-EB5C0499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4C2A-0CA9-4290-A592-AA182397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90BB-451F-4742-BDF4-AB8172B4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EA6F-94AE-43FC-B369-6A295E04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82E5-64FC-4BEE-AACE-65513F88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61B1-F9EB-4C3B-B481-A20C867B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C851-9F55-4735-8BCF-7892EB15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9679-4C00-4697-9B1F-85682507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D6DA-D43D-4A72-AD84-7B276F2F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C53D-1846-4FD3-B031-DEA9386109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1606-5244-4CBB-8D04-697D896FC5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24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25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26.xml"/><Relationship Id="rId28" Type="http://schemas.openxmlformats.org/officeDocument/2006/relationships/audio" Target="../media/jeop.wav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6002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898200" y="175248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tamin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tami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5840" y="175248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tamin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3880" y="175248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tamin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1800" y="1752480"/>
            <a:ext cx="14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tamin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828440" y="2387520"/>
            <a:ext cx="5974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Which one is full of respec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ectfully or Respectiv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Which one shows the order indica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ectfully or Respectiv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822760" y="3048120"/>
            <a:ext cx="299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ectful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ective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17760" y="2819520"/>
            <a:ext cx="6035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is used with plural amoun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wer and Nu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 and Amou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669040" y="3124080"/>
            <a:ext cx="37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wer and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360160" y="2971800"/>
            <a:ext cx="44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l right or Alrigh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660120" y="312408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l rig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600200" y="2438280"/>
            <a:ext cx="617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“south” should be capitaliz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live south of Wiscons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live in the south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42240" y="2971800"/>
            <a:ext cx="405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Op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live in the Sou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083960" y="2720880"/>
            <a:ext cx="728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one in the class is shorter than I (am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one in the class is shorter than 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918360" y="3048120"/>
            <a:ext cx="71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eryone in the class is shorter than I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743200" y="2590920"/>
            <a:ext cx="327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- Attend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- Attenda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- Atenda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- Atanda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224720" y="2438280"/>
            <a:ext cx="748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Which one means to leave a countr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migrate or Immigr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Which one means to ent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migrate or Immigr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125880" y="2971800"/>
            <a:ext cx="286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migr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mmigra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528200" y="2971800"/>
            <a:ext cx="62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one means distinguish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minent or Immin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582360" y="2971800"/>
            <a:ext cx="190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min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91800" y="3168720"/>
            <a:ext cx="590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should use a comma w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can substitute what wor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116240" y="297180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89040" y="3048120"/>
            <a:ext cx="787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tead of boughten you should use wha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996120" y="3048120"/>
            <a:ext cx="733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ore-bought, ready-made, commeric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 not homema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906920" y="3200400"/>
            <a:ext cx="52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ppose to or Supposed to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970000" y="3048120"/>
            <a:ext cx="293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pposed 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70720" y="3124080"/>
            <a:ext cx="308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- Attenda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145880" y="3200400"/>
            <a:ext cx="68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should you hyphenate word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2280" y="28195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two or more words are used as an adjectiv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449360" y="3048120"/>
            <a:ext cx="61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veryone is or Everyone ar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507840" y="304812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eryone 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39040" y="2666880"/>
            <a:ext cx="89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eryone needs to turn in homewor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eryone needs to turn in his or her homewor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00"/>
                </a:solidFill>
                <a:uFillTx/>
                <a:latin typeface="Times New Roman"/>
              </a:rPr>
              <a:t>$200 Answer from H4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94320" y="2971800"/>
            <a:ext cx="705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eryone needs to turn in homewor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995760" y="2590920"/>
            <a:ext cx="694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nce I went home, I fell aslee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ing that I went home, I fell aslee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375920" y="3124080"/>
            <a:ext cx="606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nce I went home, I fell aslee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892520" y="3168720"/>
            <a:ext cx="50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kind or these kind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046320" y="2743200"/>
            <a:ext cx="287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se kin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973600" y="2514600"/>
            <a:ext cx="3088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- Sofmo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- Sopohomo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- Sophomo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- Sophmo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821320" y="2819520"/>
            <a:ext cx="319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tc. or Ect.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887280" y="2895480"/>
            <a:ext cx="106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842400" y="2514600"/>
            <a:ext cx="723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helves look broke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helves look as if they are broke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66440" y="3124080"/>
            <a:ext cx="72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helves look as if they are broke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441520" y="30481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avily or Heavi-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276720" y="297180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avi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00"/>
                </a:solidFill>
                <a:uFillTx/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00"/>
                </a:solidFill>
                <a:uFillTx/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1200" y="266688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665800" y="2895480"/>
            <a:ext cx="34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- Sophomo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137320" y="2895480"/>
            <a:ext cx="500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games do we pla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ramural or Innermura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508200" y="3048120"/>
            <a:ext cx="21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ramur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902880" y="2362320"/>
            <a:ext cx="7468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 was born on July 7, 1992, in Galesbur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 was born on July 7, 1992 in Galesbur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06720" y="2362320"/>
            <a:ext cx="834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hoi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b was born on July 7, 1992, in Galesbur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213027</cp:lastModifiedBy>
  <dcterms:modified xsi:type="dcterms:W3CDTF">2010-05-19T13:16:40Z</dcterms:modified>
  <cp:revision>16</cp:revision>
  <dc:subject/>
  <dc:title>Jeopardy</dc:title>
</cp:coreProperties>
</file>